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4DF-522B-48A8-BCEB-ACF810CC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17A-6A38-44DE-A877-D27A0DA6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A07-71E6-4A58-A8D3-E4403D19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1A9-20AC-4CC2-9E28-ED9BBCA0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6BE-111F-4518-9FCA-04F856B5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E46-2D39-41FB-AFA8-6F44CDD1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C4C-7E22-4E39-BBCD-4FBA7C4F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012-1236-401B-A2CC-61DD5844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B55-DF77-444C-B14A-3FF5D419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9DA-3BB2-434C-B8E5-555FA7FA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DB4-EFF4-467D-82B8-63B50AC1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CE9-C8B7-4A53-92F7-2B8EDF8F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2BA9-8E61-49DC-9CA3-60E6ECF99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s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the director of an artists collective. We house writers, painters, artists, dancers, musicians, and any other kind of artist you can imagine. We give them a place to live and a studio/office of their 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applying for an open spot in the collective. In no more than one paragraph, you must introduce yourself and explain why you deserve a spot in the collect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osen, you will come in for a more formal interview to fully explain yourself and give examples of your wor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sk (pt.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s to read their paragraph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, decide whether or not you would give the author an interview based on this introductory para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: when you listened to another’s paragraph, what elements were you listening for? What makes a good paragraph?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ease write for collec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: when you wrote your paragraph, what were you trying to do? How were you hoping to appeal to the audience?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ease write for col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: what do you notice when you compare your answers from numbers 2 and 3?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ease write for col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’s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troduce the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hat topic will this paper focu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what so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I need to know about i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ow why this topic worth expl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this topic makes it worth writing abou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spects of it will be explor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ese aspects will probably be revisited in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ate an arguable, defendable position regarding the topic: a thesis stat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you going to prove/argue regarding this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ill I learn as a result of this pap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expect as I keep read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INTRO IS AS LONG AS IT NEEDS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0" y="1676520"/>
            <a:ext cx="2286000" cy="4100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xford"/>
              </a:rPr>
              <a:t>Big ‘ol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xford"/>
              </a:rPr>
              <a:t>Length: 2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xford"/>
              </a:rPr>
              <a:t>Diameter: 6ft – 10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xford"/>
              </a:rPr>
              <a:t>Ave. Temp: 64</a:t>
            </a:r>
            <a:r>
              <a:rPr b="1" lang="en-US" sz="1800" spc="-1" strike="noStrike">
                <a:solidFill>
                  <a:srgbClr val="000000"/>
                </a:solidFill>
                <a:latin typeface="Oxford"/>
                <a:ea typeface="Arial"/>
              </a:rPr>
              <a:t>°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xford"/>
                <a:ea typeface="Arial"/>
              </a:rPr>
              <a:t>Wildlife: Sp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xford"/>
                <a:ea typeface="Arial"/>
              </a:rPr>
              <a:t>- Tunnel will transport you to other side of lake and change the way you understand lif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3:06:12Z</dcterms:created>
  <dc:creator>Administrator</dc:creator>
  <dc:description/>
  <dc:language>en-US</dc:language>
  <cp:lastModifiedBy>Administrator</cp:lastModifiedBy>
  <dcterms:modified xsi:type="dcterms:W3CDTF">2010-10-15T09:32:28Z</dcterms:modified>
  <cp:revision>4</cp:revision>
  <dc:subject/>
  <dc:title>Slide 1</dc:title>
</cp:coreProperties>
</file>